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C874-2CEB-4943-8384-A23FB69609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5166-F716-4FC5-AE69-DDE2751A8D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316-38F7-4D9F-974E-023F7B40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6C2-5F3F-47A2-AECD-AF2F53F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7C8-D49C-4D5E-B5DA-4FD3204E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CB4-0D33-437A-966E-9BF2D0C5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21D-35D1-4861-9036-81265044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00A-ECDC-42AD-93DC-99B94ED9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280-2261-4E8C-86A7-71F2EF8A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21B-37D7-4782-80EC-687CAA1B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03A-D94A-4AD9-8262-25F48A25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C79-5D42-40D5-87C0-CC186848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52F-5DE0-428C-A63B-F35DD4B4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3BA-5998-497A-A226-66B0778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D9C4-E363-4CFD-8827-0D7DE23AB7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4284720" y="1341360"/>
            <a:ext cx="576360" cy="936720"/>
          </a:xfrm>
          <a:prstGeom prst="downArrow">
            <a:avLst>
              <a:gd name="adj1" fmla="val 50000"/>
              <a:gd name="adj2" fmla="val 4063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16000" y="2708280"/>
            <a:ext cx="69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Włączanie w skład państwa na wschodzie jedynie terenów zamieszkanych </a:t>
            </a:r>
            <a:br>
              <a:rPr sz="2800"/>
            </a:b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w większości przez Polaków aby możliwa była pełna asymilacja mieszkającej ten ludności (powrót lub korzystna korekta granic przedrozbiorowych na zachodzie oraz do granic z 1792 na wschodz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1:31:00Z</dcterms:created>
  <dc:creator>rjuraszczyk</dc:creator>
  <dc:description/>
  <dc:language>en-US</dc:language>
  <cp:lastModifiedBy>IB</cp:lastModifiedBy>
  <dcterms:modified xsi:type="dcterms:W3CDTF">2013-03-14T17:14:47Z</dcterms:modified>
  <cp:revision>6</cp:revision>
  <dc:subject/>
  <dc:title>Koncepcja granic Romana Dmowskiego</dc:title>
</cp:coreProperties>
</file>